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08F-FB0F-435E-949C-21DCC0A2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FD5-9195-48C9-B11D-7BA43822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80DBA-EB40-4151-8F32-3CB28EF9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502B3-4A0E-470E-B45B-41840115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BC2F2-92C2-46B1-A0C0-A6BF9D8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D934D-6717-4D33-BE16-912F779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CA2EA-1837-4753-90FB-76AD5A4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E1B25-B09E-407E-8CDA-44D62A5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7B0EA-8AFC-4E85-BBDD-8F9BDD6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BF9A7-393A-4EB1-B32B-6BBC9BFA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E454D-20D6-4DC6-BD97-A94EAA8F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5E81B-9BD2-4682-A7A5-D99A3A70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105-E83C-48B2-8790-696E5671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92BE9-EAA4-4A27-B292-583EC619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29D1A-2432-4DDC-856F-1CAC2EB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10488-F4EB-4FD1-A6C0-8E0A47A1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E5082-E681-4979-9387-08509715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C1E35-07C0-44E1-A1B3-83933643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CF393-AD6D-41A5-B7FB-348CFF13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8EA7D-BAFD-4B6A-AC1A-3E93488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E4BED-0FF9-4C54-9144-6521F129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A71AE-4495-42AC-9B26-00DB562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73D4-23B3-49D5-A4FA-538D9DF8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FD2-364D-420E-B832-B87619E7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C4A5C-ACA6-493B-B69D-738403DA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701D3-E5CA-4152-A096-9F0985C0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18866-3FDF-414A-89DC-2BE6630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7982E-2AC6-42EE-9115-156F84A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6DE2E-9E02-439C-BAC2-8641588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7FAF1-85F6-468D-ABED-C70DA618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4F92C-4CCE-4350-B12F-53C3C473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6B4B8-38DC-4ECE-83C8-DB27B64E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23C5B-606C-4907-9D8C-0F2E8F6B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6BA17-9CA0-4EC8-91C3-3BD029D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14B6-9F43-41F6-8EEF-501A2E03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90AFC-347C-431B-888F-3725CC9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A388-F41C-4D4A-B333-2E041359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07DA7-CDA4-43D4-841F-C4F558E3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1089C-4837-4FFC-B93A-CB811204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7938B-6878-41A5-B0DD-59A426A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2D59D-07F7-4F16-ABDC-486D961D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927D1-A092-4D0E-8FA3-334C4CB5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A6DF1-D5AF-40ED-A4C0-85748041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2ED71-5E16-46DD-B1D3-5268EC5B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3C5BC-E409-4B3F-9B43-0DAE0F1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038F-9D22-430A-BC8E-43E89D30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0EB09-A986-4B51-98D9-0511320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E662-6C89-4BA0-A924-77FFB55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1A9A6-B3AF-4A44-B8BA-6F03B476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ABE3A-6CD9-4700-870D-9E84D34D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8DB60-0D07-4774-B203-D321605A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E8403-1954-4F73-8317-B2E411CD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D5C3F-7B89-4B47-941E-BCD6F23F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1AA66-43D9-407A-869B-34A425A7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1D156-2B44-407E-B3B2-7F300F0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E785B-6FBF-4D72-9B7C-BB28240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8D94-FEEF-4C3B-AC40-8A48FF7F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69F16-0F22-44B7-AC84-C8AF40F1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83029-103F-41FF-B3D5-AFB0E4B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DBE9F-70B6-4030-85A9-B5E2BBA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DD645-3229-4B64-88BE-8CA38EF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B3674-DF4B-4770-A9DE-25E8C4B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7B6DC-891B-4A00-B7C9-B4470FC8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7E1CA-CCC5-4443-AD2E-C9409CB3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D1FF9-007E-4194-97F0-E6C23072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92C43-C047-445F-ACCA-1E0DC50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A004D-F774-4980-AF31-E3658A6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4852-8DF5-4ACC-BA63-CE79C2EF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C0F00-C83B-4A2A-BAD0-0FE6DE11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60393-330C-4A91-BBA8-012E3D9C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34BA7-1EFA-4ACC-ABD9-89DA6549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AE7AB-9CCE-45B4-85A7-E82543B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2AF9B-23C8-4002-A831-52C9AD2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E1A9E-FA7D-4917-9472-E1C70AF4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18327-3EF5-4E18-8567-37E2324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AC8C8-6B13-42EE-87D4-8B6586F2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B9335-1F83-4A2A-9759-AC99FD36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2610E-277D-4830-9FC7-6A3282E4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55FA-160C-41FD-A3E7-3B28014B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E4874-F5AB-4662-A426-CF13B029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A92DE-4936-4B12-AF1A-8EF8A2FF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44B10-4498-4844-916D-7C03D97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5F373-D025-42C4-A4A9-0AC095D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262BE-B13D-4C41-B295-032262FC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11D21-0434-4878-9C12-27A99BBA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46B51-6731-4111-B7D2-CDC0F95B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A209F-C105-4CBA-9FC7-6261ABD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4B470-DEAF-4805-9A4E-3A578900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95FAC-969C-4C38-81DE-A9FA31CA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F46E-FAC7-455D-86EC-9E6E25EA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71C70-CCD1-4FF7-9CD8-A7293B42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73A0A-1E56-476B-BC7E-986B6E6A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A767B-AC63-4D98-9F15-A0A6136F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5F50F-EC03-4E85-8B62-1A34EB0B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2C122-0FC0-4E34-8EE4-9C7DA260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7720B-4E6D-4139-B366-6D1D83F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A6883-9C25-42A2-BA84-D2C94BB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56A14-88A1-468B-BC98-5895BE15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A0F5A-3AC2-4004-8537-88152D2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E183A-7E41-4FC0-B9CE-C9B5A322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C8B-78F5-4B0B-956E-F34DCA1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5F618-2791-41A9-96A6-0A24BD2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312AA-C0EB-4B1B-A645-5C66E4BC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DF048-7117-4879-B08A-A5A76671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41E2F-4663-49E1-92C3-F2A665B1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EA934-610D-4DBD-B1E0-420B76F0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246F1-B40C-464F-B606-3F1445F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0C8F7A-D8F1-4E3B-92D5-180F94B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B363B-9836-4289-A382-64C4241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B02CC-976B-4D1B-8A03-CBEAB7FC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9F862-6C9A-404D-A021-4F41E73D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D9E-1C7A-42B1-ABDE-A57451A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67CA-44F2-451F-A743-8618D29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5592F-447F-4E47-BD55-9024A35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69B42-71B7-4003-A7B5-2BD922E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76D70-0DF6-48AA-A4CB-3A1B0FB7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F273B-08C5-4686-B47E-AD291DD4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2250C-2CFA-4539-9C0F-541FA67A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CE823-8DA6-4EE0-AC2D-B9BD6206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8B0CC-5CB8-4A51-91D6-2D6533A1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ECF0F-8D9C-4F94-AB32-AA313936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ED664-049B-4A1E-A997-5104BD33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5923B0-D052-48B2-AAC2-017CA4BB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2C22-9AAC-479E-841B-BA07A0E8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F2CEE-EFDF-46E9-A8A4-6B5CE4E7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CFE53-ADC9-410C-974C-8D99798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5BE48-D63E-4CFA-BF66-D1EE4C8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6B3AD-F1EA-496A-891B-C11E2C8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474A3-AFD2-4C1E-B611-E70FD624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DED11-ED46-4C3D-B448-5FC25478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B8D48-4530-410B-92C3-A369BDA6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FABE25-2BF3-495A-8F5E-FF53DE9B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9344C-410E-4F93-ABCA-354C72C6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8311F-5F89-47ED-8078-7AD0E59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18EB-423E-4701-BFF5-4ECD0501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31460-0FF8-4289-9060-56292B43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1CC6C-3B3C-444B-B02F-4F252D1D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665FC-E9C3-40BC-9D17-BD619D51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5F7EA-F695-44C0-9603-93FE808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EDF50-18FE-4012-A129-84351CFF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4C594-C9FE-473C-B242-C5DB89A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921C0-A0C4-4FEA-8FFF-D84F265F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AE7C8-5866-4ABE-8B2B-0EBD7343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2214F-35EE-45D2-B7A0-00114534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98D85-8F75-4516-96D6-E8EA6496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A45D-B688-4861-8D56-C5E9E920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F8E3B-8ED8-4DB6-A754-289AB8F3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947553-4852-4697-B9EE-64667E6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7EB2E-8FDF-4236-924A-AC1BE89C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DE75A7-8D91-4D47-A41B-5753B2FC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28FBD-0D96-4876-B23F-18469B8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16863-1BD1-4BD1-9490-F977BA1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82EEC-5956-4BF8-95BA-567B477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CEF52-2400-4CC6-832A-2322CDD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E9CDE-0E02-4508-BA7F-34813F6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D0301-79E5-4B8A-97A1-B2453645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26F5-4A4C-485D-8743-2B5A107D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8485D-C281-4822-B632-723FF741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3617C6-E150-4F98-9579-E8CBD051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8FEF5-E3F6-4365-96E8-6549FA6A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1986B-4B23-4D74-8D44-3C3861D9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9A95F-C6E6-4A80-B727-B3AA345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01DE99-D7D5-4BA9-B15A-026FE63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49992-3D76-452F-A516-9697B755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5CF54-3085-4746-9B87-456E5C3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1AC52-614B-48AA-B8B6-23E44466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0A334-A104-4AA5-A905-DF4591F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A4B0-99B7-49AD-A85E-F7F357CD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31F257-742E-4C1E-AC76-8ECAA6B5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A415E-50E5-4097-975E-8CDA2C0C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E4B95-C360-4F13-A9A7-4F821209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0455-BF25-48BF-9758-83FE7BBB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E27C-EFE3-4602-BB81-BB1D9971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D596-893C-4B67-8718-ED6D2479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CAD1-6882-4CBB-B195-DC6786A5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CFC-CBEF-4048-A0B1-FE3AF7E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968B-57DD-44B5-AC82-0179239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01A7-B5E0-43FF-B1E4-82A9A5C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DCEF-2774-4073-A8D0-FE84D4A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733E-343F-47FA-88C8-A593020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AF5C-34C4-4D70-88E8-60F8B99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4317-393F-4128-BA80-581B5BE2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0BE9-437B-45E0-81E9-9DC56A68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565F-CAED-44FA-82EF-0E966C7C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881F-EF2E-472B-ADA8-082F03F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2DE7-2C23-4D4D-821D-CE79C045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913-710E-4A31-B38C-73E88A74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CEE7-F906-4E7E-994D-D6F5B73D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E1DA-D9BD-486A-AB8A-416454BE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B281-0123-4D90-937F-C79C7D29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7F9DA-45DD-4707-9E8B-D85A524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DEFA-B615-47AA-85AA-D32ECE9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33A8-1947-4E62-AD71-6E5578C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8CC6-5F71-4AA5-9C04-9B1CBE29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E568-215C-493C-875E-EB319C3D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21109-0187-47F8-812A-ECA0E506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79F0-57DE-43E9-9735-3294CEFF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020-3C35-48E9-90D4-DF822CB7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88A9-D813-43A8-953C-076C08C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4FD5F-CBC8-4749-89CE-31D32711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7CCFE-9507-4D06-B95C-66712999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3CE2-F01F-4C1F-A253-787C6DE4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BBDD0-C6B6-48B1-8EF8-1E0F3BC2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0ACA-E506-4E15-A86F-11E30880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35253-4054-4793-BB00-42F9FB2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E338-77E3-4482-9933-951B2DD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3649-AA55-4A65-BCE0-C7E25C93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0880-8A25-4886-A611-43F38D57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42B-388A-4325-BDB0-C3F8977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D9AC7-7C3F-41E5-8734-353C01AF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2AC6-0917-45AA-88DB-C84044B4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C9E3-7DB2-411D-9326-CC876C8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608F-C498-45B0-85EC-A7F2C8D2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FECD-E403-4D25-87EA-509FBD8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E49E-6027-4C18-8675-6064ED5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0631-1945-46EA-87BA-1C173F4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31B3-AF32-4F89-A531-AA0A58D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08F1A-3223-4174-B081-E64648D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CF56-E592-4F96-90C5-CF07EA8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0E2-2D2C-4944-AD46-2C9AFAEE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25B7-F5EE-485E-A2CA-6C57C27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FF39A-39DE-4128-8BA0-721BAEB5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CC92E-C465-4D05-9042-A6550F65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3F43-9D74-421B-88A4-7DBFC17F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841F4-97F2-48BC-901A-17845AB5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65BE-3C26-4AE9-A72B-5005F89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8774-3635-439F-8183-B6C422B9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25075-8DEB-4E10-80ED-55C4D22C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2AE31-8488-4A83-A8E9-B2CCAED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EDA1-C8D9-491E-9589-4EB9945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534-5B46-4934-9D02-74DC1DF5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3ED2-BCC5-447F-9B71-DE30E96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6FAF-4B3A-4F45-B0EB-5A16C12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4C93-8B36-4467-8FA0-29687ECF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5FAE-04FF-408A-915D-77037705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15F01-B8E1-4CC9-8081-1DFFCE91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63C2-5A6B-4663-B5F3-51F153B9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FDD1-AF3F-4F88-833F-4B598F13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39350-DA45-4291-BFD8-AD6C2C82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28EB-350C-4D3C-83A7-8D030A3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66B72-B24C-45C9-9857-7F0126F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D58-621B-4350-A888-D179663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9E4DC-0FED-4188-B781-0F23FA43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50DA1-C2C6-4688-A849-F823232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5ECA7-70FA-47C0-B2A7-D2ABA91A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21E48-53BC-4125-BD8A-6A78FD4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26DB4-066C-46BC-B98D-AC60BC3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3F062-70EA-4912-A31F-C607285D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4CF00-74DE-476B-9A4D-C0881A0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37534-0C71-4993-8220-43362D83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2014C-2B0F-4655-B3D9-C89DD211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43A97-520D-4EF3-AE10-8F61B156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3F7-FE70-452F-949C-FC68E474E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F827-F286-401D-82AA-98902AE2B3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E706-6962-4F28-98B7-D62B02701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7911-D8D6-4707-AE59-CBF90CCAE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B02-FC12-4AE6-AF37-2B30C9C36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A785-9C1E-4350-97F5-8738011F1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EC3D-B963-4670-B2E9-591AE10AC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4D2-9327-41B9-99D0-89F36B8E51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1A10-0F6F-46F2-9D78-FFAC39B42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CFB9-2035-4498-9D9C-CE7B7EA62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F37-2572-4279-A66F-62D8857761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EF0D-4AC4-4BEF-B92E-E429D85675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9E59-0E46-4933-BBCA-09B1B78344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69B-8B02-47FE-BFB5-2D37194464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156-6CFC-4443-AA6B-3FD1C1E3C0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7860-CD82-4AAB-804B-ADEB593CE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338-CFCE-473E-A786-76635CF0C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B48E-DA9D-41F4-B90F-163BFCBC64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85B2-B91B-40C5-A6EB-F41C24C63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BDA5-D358-455A-B2CB-F93A0F5AF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9F83-9F23-45D1-8448-6BA2EA6EE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3F9C-C12E-4394-8A5E-8AFBA0F991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F0E1-DE34-4FEC-8105-D9DAC1B11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6FFC-5655-44A2-A7AE-C8C1AE551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AAA9-F20B-4510-9521-5A553DEE64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32FE-2839-419D-9069-6710FE5CE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E0AD-47FD-4E69-AAD2-9E588B9FD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B6F8-F0EA-4BFA-9F4C-92957A8F64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D8AC-7B84-4587-86F3-B4AC0C328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805D-61A5-4483-8A94-F2D04044F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5208-22EA-4662-9843-25557DF61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5A14-723C-4E89-ACDE-A0E9258C57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623C-C917-4000-8699-03E9777405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7BC6-83FC-407A-BE62-3C81F7723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7148-CF47-4118-9CAC-4012FDD47D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E63-CB94-47F1-8369-B8642DFAC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EDF-7427-4904-A27B-2B9343968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BAE-9DCE-4BC3-8361-3713F2EF71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CA9D-D542-4F36-8233-F21516978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EFC-5BF6-4495-B459-2103A0B25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71680" y="2228760"/>
            <a:ext cx="8001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839880"/>
            <a:ext cx="8572320" cy="5829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221600" y="299736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53960" y="3645000"/>
            <a:ext cx="1908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4365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07120" y="4365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5560920"/>
            <a:ext cx="216072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278320" y="4998960"/>
            <a:ext cx="216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90400" y="825480"/>
            <a:ext cx="7963200" cy="5772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1944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21164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3851280" y="466740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4211640" y="6093000"/>
            <a:ext cx="259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47680" y="922320"/>
            <a:ext cx="8648640" cy="5315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7667640" y="1989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7740720" y="2867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66764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7667640" y="56037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71440" y="690480"/>
            <a:ext cx="8601120" cy="547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295200" y="1152360"/>
            <a:ext cx="8553600" cy="455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87280" y="2824200"/>
            <a:ext cx="4464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71640" y="3514680"/>
            <a:ext cx="446400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446436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826920" y="5013360"/>
            <a:ext cx="7274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37960" y="1252440"/>
            <a:ext cx="8668080" cy="43531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289548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11280" y="3659040"/>
            <a:ext cx="3744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39640" y="435132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395280" y="5041800"/>
            <a:ext cx="496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380880" y="1171440"/>
            <a:ext cx="83822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604800" y="847800"/>
            <a:ext cx="7934400" cy="5676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826920" y="299736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11280" y="5791320"/>
            <a:ext cx="770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3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